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EDAC-6A1A-4773-BE7D-8F7620BDF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5C8E-01D2-4264-99A8-5E7C2DE78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D2E5-E0F5-46D6-B257-41BF9A855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F232-3B01-4ED1-A433-F6718512B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8712-1CB3-487A-AFA5-62875E3D0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9D53-F2FD-4EED-8FF4-68A6D5D7E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FA27-48FF-44F1-8722-EEA2BBBF8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37A6-EAC9-4435-B18E-64F844023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03CE-525B-4C1A-B07A-5E99BB0CB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61D5-FE06-41F2-A82A-A114E599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2243-AFE2-4AEC-A989-6182C8FB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B625-E002-4561-89B6-BC3E15F0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30795-FE73-4939-9ABC-7BE3CA4E5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pictureperfectgallery.net/wp-content/uploads/2012/11/Autumn-leaves-background.jpg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86000" y="1752480"/>
            <a:ext cx="5029200" cy="159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Las Fasionista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752480" y="3657600"/>
            <a:ext cx="572148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By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Erica Rice y Rachel Greenberg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 advTm="4000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Ver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1571760" y="-1305000"/>
            <a:ext cx="12287520" cy="946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-228600" y="-1600200"/>
            <a:ext cx="10896480" cy="96915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905120" y="-1600200"/>
            <a:ext cx="464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33720" y="0"/>
            <a:ext cx="388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380880"/>
            <a:ext cx="266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22860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Veran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914400" y="3505320"/>
            <a:ext cx="1959120" cy="2724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6172200" y="914400"/>
            <a:ext cx="1981080" cy="2971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85800" y="1905120"/>
            <a:ext cx="3886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La muchacha lleva una vestida luz azul, zapatos negros y una cinta luz azul. Se usa en el ver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943600" y="4724280"/>
            <a:ext cx="2209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muchacha lleva unos pantalones cortos rojo con camiseta luz azul y zapatillas negros. Se usa en el veran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4773600">
            <a:off x="6779880" y="4654440"/>
            <a:ext cx="459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Ot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Autumn leaves backgroun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304920" y="-1143000"/>
            <a:ext cx="9448920" cy="84582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278520" y="304920"/>
            <a:ext cx="235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Ot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470640" y="2362320"/>
            <a:ext cx="2238480" cy="415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80880" y="838080"/>
            <a:ext cx="2286000" cy="3267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724280" y="1523880"/>
            <a:ext cx="3733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o lleva los blue jeans con un formal camiseta  blanco y altas cumbres. Se usa en el otoñ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4724280"/>
            <a:ext cx="3581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muchacho lleva un chaleco con formal camiseta blanco, los blue jeans , los tenis y un sombrero negro . Se usa en el otoñ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7421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914400" y="2362320"/>
            <a:ext cx="1752480" cy="4495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248520" y="304920"/>
            <a:ext cx="2100240" cy="3162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642840" y="15840"/>
            <a:ext cx="209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Invie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371600"/>
            <a:ext cx="3886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a lleva chaqueta blanco y negro  , pantalones negros y zapatillas negros.  Se usa en el invier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72200" y="3657600"/>
            <a:ext cx="1752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a lleva un sombrero del invierno y rosado abrigo. Se usa en el invier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-304920" y="-685800"/>
            <a:ext cx="9906120" cy="83059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972160" y="-76320"/>
            <a:ext cx="259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Primav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791320" y="2286000"/>
            <a:ext cx="2930400" cy="3429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228600" y="990720"/>
            <a:ext cx="3048120" cy="30477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495680" y="609480"/>
            <a:ext cx="419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Lynch lleva chaqueta negro, camisa luz azul, los blue jeans, y cinturón. Se usa en la primaver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4876920"/>
            <a:ext cx="2209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muchacho lleva  una sudadera azul, una camisa blanco , y los blue jeans. Se usa en la primave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8T18:50:46Z</dcterms:created>
  <dc:creator>rachel greenberg</dc:creator>
  <dc:description/>
  <dc:language>en-US</dc:language>
  <cp:lastModifiedBy>APS</cp:lastModifiedBy>
  <dcterms:modified xsi:type="dcterms:W3CDTF">2013-01-11T14:38:58Z</dcterms:modified>
  <cp:revision>15</cp:revision>
  <dc:subject/>
  <dc:title>Las Fasionistas</dc:title>
</cp:coreProperties>
</file>